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2C10-6934-40C5-8242-439636703E7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matma4u.akcja.pl/twierdzenia/liczby/lr.htm" TargetMode="External"/><Relationship Id="rId2" Type="http://schemas.openxmlformats.org/officeDocument/2006/relationships/hyperlink" Target="http://matma4u.akcja.pl/twierdzenia/liczby/lr.htm" TargetMode="External"/><Relationship Id="rId3" Type="http://schemas.openxmlformats.org/officeDocument/2006/relationships/hyperlink" Target="http://matma4u.akcja.pl/twierdzenia/liczby/lc.htm" TargetMode="External"/><Relationship Id="rId4" Type="http://schemas.openxmlformats.org/officeDocument/2006/relationships/hyperlink" Target="http://matma4u.akcja.pl/twierdzenia/liczby/lc.htm" TargetMode="External"/><Relationship Id="rId5" Type="http://schemas.openxmlformats.org/officeDocument/2006/relationships/slide" Target="../slides/slide2.xml"/><Relationship Id="rId6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czby wymier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żna ustawić 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iąg nieskończon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ażd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iczba wymier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zwinięcie dziesiętne skończ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ieskończone okresow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y wymierne są po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zb rzeczywis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adzbiore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czb całkowitych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 którego należą wszystkie liczby dające się przedstawić w postaci ilorazu dwóch liczb całkowit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861-613B-42E6-871F-ACD9B22A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2D6-DB25-45C1-8735-BFBCBE1A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29D-7F61-4176-BBB1-98221672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7B5-AB85-4946-92CD-9C911254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B54-2F82-4E1E-8912-BAD7D294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1956-BFDF-4E9C-B549-E27CFD8C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137-81CC-44BC-854F-E26E926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2B7F-42C7-4D48-84AA-FED487A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A384-17AE-4D3B-95B8-87CD6526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E27A-5DF1-416B-987B-2E8C43A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E418-C852-4989-82BB-D5CDEEB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7AA-2280-4AA6-BDB9-51BE304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28E3-1A81-4613-A0DD-20BAD00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95AC-543C-4020-8DAB-98608EA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55D-DF81-42B7-A47B-CD675EFD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4C2-5CE5-4CAA-85E6-412178F4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42D0-0605-4599-99D0-A5E40BC7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EC9-31AB-47D8-86C5-FA7FE6AB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69C-5F67-4F85-B591-E7172D7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24F-08A2-4560-8920-6E4B73C5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173-8B81-46F2-8019-5667ED5C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A29-D93C-499A-89BC-E837D73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503-244F-4EE9-AC4E-CACC324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408-7958-4153-B7E0-BDCDB8F9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2DC-F472-48DC-84AF-9FC9EC173E7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BAA8-2AC8-4ABF-91DA-C572773FB1E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ZBIÓR LICZB RZECZYWISTYCH I JEGO PODZBIO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rzeczywis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Zbiór liczb natur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Zbiór liczb całkowit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wymier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liczb niewymier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żda liczba wymierna ma rozwinięcie dziesiętne skończone (a) lub nieskończone okresowe (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78120" y="3068640"/>
            <a:ext cx="3161520" cy="2303280"/>
            <a:chOff x="978120" y="3068640"/>
            <a:chExt cx="3161520" cy="23032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788840" y="3168360"/>
                  <a:ext cx="2350800" cy="22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,5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8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: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7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978120" y="306864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07560" y="3141720"/>
            <a:ext cx="3020040" cy="2160000"/>
            <a:chOff x="4507560" y="3141720"/>
            <a:chExt cx="3020040" cy="2160000"/>
          </a:xfrm>
        </p:grpSpPr>
        <p:sp>
          <p:nvSpPr>
            <p:cNvPr id="208" name=""/>
            <p:cNvSpPr/>
            <p:nvPr/>
          </p:nvSpPr>
          <p:spPr>
            <a:xfrm>
              <a:off x="4507560" y="3141720"/>
              <a:ext cx="459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279040" y="3235320"/>
                  <a:ext cx="2248560" cy="20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666666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239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12121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32323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med" advTm="175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53440" cy="117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czby niewymierne to liczby, których nie można przedstawić w postaci ilorazu dwóch liczb całkowity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1160" y="4008600"/>
                <a:ext cx="2220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03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637000"/>
            <a:ext cx="8318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iewymier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zykłady liczb niewymier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84760" y="4033800"/>
                <a:ext cx="244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47242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64000" y="4724280"/>
                <a:ext cx="939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763640" y="5734080"/>
                <a:ext cx="685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508720" y="5734080"/>
                <a:ext cx="509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NIEWYMIERN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a liczba niewymierna ma rozwinięcie dziesięt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eskończone nieokreso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284640"/>
            <a:ext cx="3924360" cy="1512720"/>
          </a:xfrm>
          <a:prstGeom prst="wedgeEllipseCallout">
            <a:avLst>
              <a:gd name="adj1" fmla="val -36810"/>
              <a:gd name="adj2" fmla="val -88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3500280"/>
            <a:ext cx="1726920" cy="863640"/>
          </a:xfrm>
          <a:prstGeom prst="wedgeEllipseCallout">
            <a:avLst>
              <a:gd name="adj1" fmla="val -38972"/>
              <a:gd name="adj2" fmla="val 290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229360"/>
            <a:ext cx="8642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niewymierne NW są podzbiorem liczb rzeczywisty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BIÓR LICZB RZECZYWISTY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zby rzeczywi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eden z najważniejszych zbiorów w całej matematyce. Intuicyjnie ich definicja jest dość prosta - liczbę rzeczywistą utożsamiamy z odległością na prost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rzeczywistych 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zbiór będący sumą zbiorów licz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ymiernych (W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ewymiernych (NW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⊂ W ⊂ R ⊃ 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czby rzeczywi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nie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wymie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iczby całkow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zby natur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860640"/>
            <a:ext cx="3924360" cy="2737080"/>
          </a:xfrm>
          <a:prstGeom prst="wedgeEllipseCallout">
            <a:avLst>
              <a:gd name="adj1" fmla="val -36810"/>
              <a:gd name="adj2" fmla="val 174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797360"/>
            <a:ext cx="1008000" cy="503280"/>
          </a:xfrm>
          <a:prstGeom prst="wedgeEllipseCallout">
            <a:avLst>
              <a:gd name="adj1" fmla="val -33148"/>
              <a:gd name="adj2" fmla="val 3422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407664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472428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5373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365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21083400">
            <a:off x="4763880" y="4722480"/>
            <a:ext cx="2000160" cy="1260360"/>
          </a:xfrm>
          <a:custGeom>
            <a:avLst/>
            <a:gdLst/>
            <a:ahLst/>
            <a:rect l="l" t="t" r="r" b="b"/>
            <a:pathLst>
              <a:path w="1187" h="510">
                <a:moveTo>
                  <a:pt x="8" y="488"/>
                </a:moveTo>
                <a:lnTo>
                  <a:pt x="17" y="510"/>
                </a:lnTo>
                <a:lnTo>
                  <a:pt x="1187" y="41"/>
                </a:lnTo>
                <a:lnTo>
                  <a:pt x="1171" y="0"/>
                </a:lnTo>
                <a:lnTo>
                  <a:pt x="0" y="468"/>
                </a:lnTo>
                <a:lnTo>
                  <a:pt x="8" y="4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1180600">
            <a:off x="2974680" y="4896000"/>
            <a:ext cx="3286080" cy="512640"/>
          </a:xfrm>
          <a:custGeom>
            <a:avLst/>
            <a:gdLst/>
            <a:ahLst/>
            <a:rect l="l" t="t" r="r" b="b"/>
            <a:pathLst>
              <a:path w="2651" h="334">
                <a:moveTo>
                  <a:pt x="1" y="311"/>
                </a:moveTo>
                <a:lnTo>
                  <a:pt x="4" y="334"/>
                </a:lnTo>
                <a:lnTo>
                  <a:pt x="2651" y="44"/>
                </a:lnTo>
                <a:lnTo>
                  <a:pt x="2645" y="0"/>
                </a:lnTo>
                <a:lnTo>
                  <a:pt x="0" y="289"/>
                </a:lnTo>
                <a:lnTo>
                  <a:pt x="1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7280" y="3865680"/>
            <a:ext cx="1627200" cy="782640"/>
          </a:xfrm>
          <a:custGeom>
            <a:avLst/>
            <a:gdLst/>
            <a:ahLst/>
            <a:rect l="l" t="t" r="r" b="b"/>
            <a:pathLst>
              <a:path w="1371" h="347">
                <a:moveTo>
                  <a:pt x="1366" y="325"/>
                </a:moveTo>
                <a:lnTo>
                  <a:pt x="1371" y="302"/>
                </a:lnTo>
                <a:lnTo>
                  <a:pt x="11" y="0"/>
                </a:lnTo>
                <a:lnTo>
                  <a:pt x="0" y="43"/>
                </a:lnTo>
                <a:lnTo>
                  <a:pt x="1360" y="347"/>
                </a:lnTo>
                <a:lnTo>
                  <a:pt x="1366" y="32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86200"/>
            <a:ext cx="1066680" cy="762120"/>
          </a:xfrm>
          <a:custGeom>
            <a:avLst/>
            <a:gdLst/>
            <a:ahLst/>
            <a:rect l="l" t="t" r="r" b="b"/>
            <a:pathLst>
              <a:path w="417" h="307">
                <a:moveTo>
                  <a:pt x="12" y="290"/>
                </a:moveTo>
                <a:lnTo>
                  <a:pt x="26" y="307"/>
                </a:lnTo>
                <a:lnTo>
                  <a:pt x="417" y="36"/>
                </a:lnTo>
                <a:lnTo>
                  <a:pt x="391" y="0"/>
                </a:lnTo>
                <a:lnTo>
                  <a:pt x="0" y="271"/>
                </a:lnTo>
                <a:lnTo>
                  <a:pt x="12" y="2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4040" y="3133800"/>
            <a:ext cx="1824120" cy="644400"/>
          </a:xfrm>
          <a:custGeom>
            <a:avLst/>
            <a:gdLst/>
            <a:ahLst/>
            <a:rect l="l" t="t" r="r" b="b"/>
            <a:pathLst>
              <a:path w="1149" h="406">
                <a:moveTo>
                  <a:pt x="1142" y="385"/>
                </a:moveTo>
                <a:lnTo>
                  <a:pt x="1149" y="363"/>
                </a:lnTo>
                <a:lnTo>
                  <a:pt x="14" y="0"/>
                </a:lnTo>
                <a:lnTo>
                  <a:pt x="0" y="41"/>
                </a:lnTo>
                <a:lnTo>
                  <a:pt x="1135" y="406"/>
                </a:lnTo>
                <a:lnTo>
                  <a:pt x="1142" y="38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6640" y="3135240"/>
            <a:ext cx="917640" cy="617760"/>
          </a:xfrm>
          <a:custGeom>
            <a:avLst/>
            <a:gdLst/>
            <a:ahLst/>
            <a:rect l="l" t="t" r="r" b="b"/>
            <a:pathLst>
              <a:path w="578" h="389">
                <a:moveTo>
                  <a:pt x="12" y="371"/>
                </a:moveTo>
                <a:lnTo>
                  <a:pt x="24" y="389"/>
                </a:lnTo>
                <a:lnTo>
                  <a:pt x="578" y="38"/>
                </a:lnTo>
                <a:lnTo>
                  <a:pt x="554" y="0"/>
                </a:lnTo>
                <a:lnTo>
                  <a:pt x="0" y="352"/>
                </a:lnTo>
                <a:lnTo>
                  <a:pt x="12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2378160"/>
            <a:ext cx="1511280" cy="527040"/>
          </a:xfrm>
          <a:custGeom>
            <a:avLst/>
            <a:gdLst/>
            <a:ahLst/>
            <a:rect l="l" t="t" r="r" b="b"/>
            <a:pathLst>
              <a:path w="952" h="332">
                <a:moveTo>
                  <a:pt x="946" y="311"/>
                </a:moveTo>
                <a:lnTo>
                  <a:pt x="952" y="289"/>
                </a:lnTo>
                <a:lnTo>
                  <a:pt x="14" y="0"/>
                </a:lnTo>
                <a:lnTo>
                  <a:pt x="0" y="43"/>
                </a:lnTo>
                <a:lnTo>
                  <a:pt x="939" y="332"/>
                </a:lnTo>
                <a:lnTo>
                  <a:pt x="946" y="3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7560" y="2379600"/>
            <a:ext cx="1148040" cy="662040"/>
          </a:xfrm>
          <a:custGeom>
            <a:avLst/>
            <a:gdLst/>
            <a:ahLst/>
            <a:rect l="l" t="t" r="r" b="b"/>
            <a:pathLst>
              <a:path w="723" h="417">
                <a:moveTo>
                  <a:pt x="11" y="398"/>
                </a:moveTo>
                <a:lnTo>
                  <a:pt x="22" y="417"/>
                </a:lnTo>
                <a:lnTo>
                  <a:pt x="723" y="39"/>
                </a:lnTo>
                <a:lnTo>
                  <a:pt x="701" y="0"/>
                </a:lnTo>
                <a:lnTo>
                  <a:pt x="0" y="378"/>
                </a:lnTo>
                <a:lnTo>
                  <a:pt x="11" y="3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9000" y="1623960"/>
            <a:ext cx="1516320" cy="633600"/>
          </a:xfrm>
          <a:custGeom>
            <a:avLst/>
            <a:gdLst/>
            <a:ahLst/>
            <a:rect l="l" t="t" r="r" b="b"/>
            <a:pathLst>
              <a:path w="955" h="399">
                <a:moveTo>
                  <a:pt x="947" y="379"/>
                </a:moveTo>
                <a:lnTo>
                  <a:pt x="955" y="358"/>
                </a:lnTo>
                <a:lnTo>
                  <a:pt x="16" y="0"/>
                </a:lnTo>
                <a:lnTo>
                  <a:pt x="0" y="41"/>
                </a:lnTo>
                <a:lnTo>
                  <a:pt x="939" y="399"/>
                </a:lnTo>
                <a:lnTo>
                  <a:pt x="947" y="3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623960"/>
            <a:ext cx="1517400" cy="623880"/>
          </a:xfrm>
          <a:custGeom>
            <a:avLst/>
            <a:gdLst/>
            <a:ahLst/>
            <a:rect l="l" t="t" r="r" b="b"/>
            <a:pathLst>
              <a:path w="956" h="393">
                <a:moveTo>
                  <a:pt x="8" y="371"/>
                </a:moveTo>
                <a:lnTo>
                  <a:pt x="16" y="393"/>
                </a:lnTo>
                <a:lnTo>
                  <a:pt x="956" y="41"/>
                </a:lnTo>
                <a:lnTo>
                  <a:pt x="941" y="0"/>
                </a:lnTo>
                <a:lnTo>
                  <a:pt x="0" y="351"/>
                </a:lnTo>
                <a:lnTo>
                  <a:pt x="8" y="3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952880"/>
            <a:ext cx="1011240" cy="581040"/>
          </a:xfrm>
          <a:custGeom>
            <a:avLst/>
            <a:gdLst/>
            <a:ahLst/>
            <a:rect l="l" t="t" r="r" b="b"/>
            <a:pathLst>
              <a:path w="291" h="330">
                <a:moveTo>
                  <a:pt x="273" y="315"/>
                </a:moveTo>
                <a:lnTo>
                  <a:pt x="291" y="301"/>
                </a:lnTo>
                <a:lnTo>
                  <a:pt x="36" y="0"/>
                </a:lnTo>
                <a:lnTo>
                  <a:pt x="0" y="28"/>
                </a:lnTo>
                <a:lnTo>
                  <a:pt x="257" y="330"/>
                </a:lnTo>
                <a:lnTo>
                  <a:pt x="273" y="3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5943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533412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234120" y="5257800"/>
          <a:ext cx="2909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4120" y="5257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3341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4956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581280"/>
            <a:ext cx="2048040" cy="50508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6576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281952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743200"/>
            <a:ext cx="204804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440" y="457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dział liczb </a:t>
            </a:r>
            <a:r>
              <a:rPr b="1" lang="en-US" sz="2400" spc="-1" strike="noStrike">
                <a:solidFill>
                  <a:srgbClr val="ff3d0f"/>
                </a:solidFill>
                <a:latin typeface="Arial"/>
              </a:rPr>
              <a:t>rzeczywi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476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2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0" y="13"/>
                </a:lnTo>
                <a:lnTo>
                  <a:pt x="1178" y="20"/>
                </a:lnTo>
                <a:lnTo>
                  <a:pt x="1196" y="28"/>
                </a:lnTo>
                <a:lnTo>
                  <a:pt x="1212" y="36"/>
                </a:lnTo>
                <a:lnTo>
                  <a:pt x="1227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2" y="98"/>
                </a:lnTo>
                <a:lnTo>
                  <a:pt x="1280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0" y="206"/>
                </a:lnTo>
                <a:lnTo>
                  <a:pt x="1272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7" y="271"/>
                </a:lnTo>
                <a:lnTo>
                  <a:pt x="1212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0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2" y="318"/>
                </a:lnTo>
                <a:lnTo>
                  <a:pt x="191" y="316"/>
                </a:lnTo>
                <a:lnTo>
                  <a:pt x="169" y="314"/>
                </a:lnTo>
                <a:lnTo>
                  <a:pt x="150" y="310"/>
                </a:lnTo>
                <a:lnTo>
                  <a:pt x="129" y="304"/>
                </a:lnTo>
                <a:lnTo>
                  <a:pt x="111" y="298"/>
                </a:lnTo>
                <a:lnTo>
                  <a:pt x="94" y="289"/>
                </a:lnTo>
                <a:lnTo>
                  <a:pt x="77" y="281"/>
                </a:lnTo>
                <a:lnTo>
                  <a:pt x="62" y="271"/>
                </a:lnTo>
                <a:lnTo>
                  <a:pt x="49" y="260"/>
                </a:lnTo>
                <a:lnTo>
                  <a:pt x="36" y="248"/>
                </a:lnTo>
                <a:lnTo>
                  <a:pt x="25" y="234"/>
                </a:lnTo>
                <a:lnTo>
                  <a:pt x="17" y="220"/>
                </a:lnTo>
                <a:lnTo>
                  <a:pt x="9" y="206"/>
                </a:lnTo>
                <a:lnTo>
                  <a:pt x="4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4" y="127"/>
                </a:lnTo>
                <a:lnTo>
                  <a:pt x="9" y="112"/>
                </a:lnTo>
                <a:lnTo>
                  <a:pt x="17" y="98"/>
                </a:lnTo>
                <a:lnTo>
                  <a:pt x="25" y="83"/>
                </a:lnTo>
                <a:lnTo>
                  <a:pt x="36" y="71"/>
                </a:lnTo>
                <a:lnTo>
                  <a:pt x="49" y="59"/>
                </a:lnTo>
                <a:lnTo>
                  <a:pt x="62" y="47"/>
                </a:lnTo>
                <a:lnTo>
                  <a:pt x="77" y="36"/>
                </a:lnTo>
                <a:lnTo>
                  <a:pt x="94" y="28"/>
                </a:lnTo>
                <a:lnTo>
                  <a:pt x="111" y="20"/>
                </a:lnTo>
                <a:lnTo>
                  <a:pt x="129" y="13"/>
                </a:lnTo>
                <a:lnTo>
                  <a:pt x="150" y="8"/>
                </a:lnTo>
                <a:lnTo>
                  <a:pt x="169" y="4"/>
                </a:lnTo>
                <a:lnTo>
                  <a:pt x="191" y="1"/>
                </a:lnTo>
                <a:lnTo>
                  <a:pt x="212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1828800"/>
          <a:ext cx="29098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2666880"/>
          <a:ext cx="29098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86200" y="2666880"/>
          <a:ext cx="290988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6668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920" y="3505320"/>
          <a:ext cx="290988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429000" y="3505320"/>
          <a:ext cx="290988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505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4343400"/>
          <a:ext cx="29098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09480" y="5181480"/>
          <a:ext cx="2909880" cy="7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5181480"/>
                    <a:ext cx="29098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00400" y="5791320"/>
          <a:ext cx="2909880" cy="749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4343400"/>
          <a:ext cx="2909880" cy="74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43434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19720" y="114300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38480" y="990720"/>
          <a:ext cx="2909880" cy="749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99072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94120" y="2060640"/>
            <a:ext cx="2047680" cy="504720"/>
          </a:xfrm>
          <a:custGeom>
            <a:avLst/>
            <a:gdLst/>
            <a:ahLst/>
            <a:rect l="l" t="t" r="r" b="b"/>
            <a:pathLst>
              <a:path w="1290" h="318">
                <a:moveTo>
                  <a:pt x="213" y="0"/>
                </a:moveTo>
                <a:lnTo>
                  <a:pt x="1077" y="0"/>
                </a:lnTo>
                <a:lnTo>
                  <a:pt x="1099" y="1"/>
                </a:lnTo>
                <a:lnTo>
                  <a:pt x="1121" y="4"/>
                </a:lnTo>
                <a:lnTo>
                  <a:pt x="1140" y="8"/>
                </a:lnTo>
                <a:lnTo>
                  <a:pt x="1161" y="13"/>
                </a:lnTo>
                <a:lnTo>
                  <a:pt x="1178" y="20"/>
                </a:lnTo>
                <a:lnTo>
                  <a:pt x="1196" y="28"/>
                </a:lnTo>
                <a:lnTo>
                  <a:pt x="1213" y="36"/>
                </a:lnTo>
                <a:lnTo>
                  <a:pt x="1228" y="47"/>
                </a:lnTo>
                <a:lnTo>
                  <a:pt x="1241" y="59"/>
                </a:lnTo>
                <a:lnTo>
                  <a:pt x="1253" y="71"/>
                </a:lnTo>
                <a:lnTo>
                  <a:pt x="1264" y="83"/>
                </a:lnTo>
                <a:lnTo>
                  <a:pt x="1274" y="98"/>
                </a:lnTo>
                <a:lnTo>
                  <a:pt x="1281" y="112"/>
                </a:lnTo>
                <a:lnTo>
                  <a:pt x="1286" y="127"/>
                </a:lnTo>
                <a:lnTo>
                  <a:pt x="1289" y="143"/>
                </a:lnTo>
                <a:lnTo>
                  <a:pt x="1290" y="159"/>
                </a:lnTo>
                <a:lnTo>
                  <a:pt x="1290" y="159"/>
                </a:lnTo>
                <a:lnTo>
                  <a:pt x="1289" y="175"/>
                </a:lnTo>
                <a:lnTo>
                  <a:pt x="1286" y="190"/>
                </a:lnTo>
                <a:lnTo>
                  <a:pt x="1281" y="206"/>
                </a:lnTo>
                <a:lnTo>
                  <a:pt x="1274" y="220"/>
                </a:lnTo>
                <a:lnTo>
                  <a:pt x="1264" y="234"/>
                </a:lnTo>
                <a:lnTo>
                  <a:pt x="1253" y="248"/>
                </a:lnTo>
                <a:lnTo>
                  <a:pt x="1241" y="260"/>
                </a:lnTo>
                <a:lnTo>
                  <a:pt x="1228" y="271"/>
                </a:lnTo>
                <a:lnTo>
                  <a:pt x="1213" y="281"/>
                </a:lnTo>
                <a:lnTo>
                  <a:pt x="1196" y="289"/>
                </a:lnTo>
                <a:lnTo>
                  <a:pt x="1178" y="298"/>
                </a:lnTo>
                <a:lnTo>
                  <a:pt x="1161" y="304"/>
                </a:lnTo>
                <a:lnTo>
                  <a:pt x="1140" y="310"/>
                </a:lnTo>
                <a:lnTo>
                  <a:pt x="1121" y="314"/>
                </a:lnTo>
                <a:lnTo>
                  <a:pt x="1099" y="316"/>
                </a:lnTo>
                <a:lnTo>
                  <a:pt x="1077" y="318"/>
                </a:lnTo>
                <a:lnTo>
                  <a:pt x="213" y="318"/>
                </a:lnTo>
                <a:lnTo>
                  <a:pt x="191" y="316"/>
                </a:lnTo>
                <a:lnTo>
                  <a:pt x="170" y="314"/>
                </a:lnTo>
                <a:lnTo>
                  <a:pt x="150" y="310"/>
                </a:lnTo>
                <a:lnTo>
                  <a:pt x="129" y="304"/>
                </a:lnTo>
                <a:lnTo>
                  <a:pt x="112" y="298"/>
                </a:lnTo>
                <a:lnTo>
                  <a:pt x="94" y="289"/>
                </a:lnTo>
                <a:lnTo>
                  <a:pt x="78" y="281"/>
                </a:lnTo>
                <a:lnTo>
                  <a:pt x="63" y="271"/>
                </a:lnTo>
                <a:lnTo>
                  <a:pt x="49" y="260"/>
                </a:lnTo>
                <a:lnTo>
                  <a:pt x="37" y="248"/>
                </a:lnTo>
                <a:lnTo>
                  <a:pt x="26" y="234"/>
                </a:lnTo>
                <a:lnTo>
                  <a:pt x="18" y="220"/>
                </a:lnTo>
                <a:lnTo>
                  <a:pt x="9" y="206"/>
                </a:lnTo>
                <a:lnTo>
                  <a:pt x="5" y="190"/>
                </a:lnTo>
                <a:lnTo>
                  <a:pt x="1" y="175"/>
                </a:lnTo>
                <a:lnTo>
                  <a:pt x="0" y="159"/>
                </a:lnTo>
                <a:lnTo>
                  <a:pt x="0" y="159"/>
                </a:lnTo>
                <a:lnTo>
                  <a:pt x="1" y="143"/>
                </a:lnTo>
                <a:lnTo>
                  <a:pt x="5" y="127"/>
                </a:lnTo>
                <a:lnTo>
                  <a:pt x="9" y="112"/>
                </a:lnTo>
                <a:lnTo>
                  <a:pt x="18" y="98"/>
                </a:lnTo>
                <a:lnTo>
                  <a:pt x="26" y="83"/>
                </a:lnTo>
                <a:lnTo>
                  <a:pt x="37" y="71"/>
                </a:lnTo>
                <a:lnTo>
                  <a:pt x="49" y="59"/>
                </a:lnTo>
                <a:lnTo>
                  <a:pt x="63" y="47"/>
                </a:lnTo>
                <a:lnTo>
                  <a:pt x="78" y="36"/>
                </a:lnTo>
                <a:lnTo>
                  <a:pt x="94" y="28"/>
                </a:lnTo>
                <a:lnTo>
                  <a:pt x="112" y="20"/>
                </a:lnTo>
                <a:lnTo>
                  <a:pt x="129" y="13"/>
                </a:lnTo>
                <a:lnTo>
                  <a:pt x="150" y="8"/>
                </a:lnTo>
                <a:lnTo>
                  <a:pt x="170" y="4"/>
                </a:lnTo>
                <a:lnTo>
                  <a:pt x="191" y="1"/>
                </a:lnTo>
                <a:lnTo>
                  <a:pt x="213" y="0"/>
                </a:lnTo>
              </a:path>
            </a:pathLst>
          </a:custGeom>
          <a:solidFill>
            <a:srgbClr val="ffff00"/>
          </a:solidFill>
          <a:ln w="14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90920" y="1828800"/>
          <a:ext cx="2909880" cy="74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1828800"/>
                    <a:ext cx="2909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0033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naturalne to dodatnie cał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liczba zero czyli 0, 1, 2, 3, 4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naturaln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 = { 0, 1, 2, 3, 4, 5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860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NATURALN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378936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4365720"/>
            <a:ext cx="718920" cy="64764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300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biór liczb naturalnych jest podzbiorem liczb całkowi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981000"/>
            <a:ext cx="842472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ierwsz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dzielą się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lko przez 1 i przez samą siebie: 2, 3, 5, 7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997360"/>
            <a:ext cx="828036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złożo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naturalne, które posiadaj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ięcej niż dwa dzielniki: 4, 6, 9, 24, 75,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76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0 i 1 nie należą ani do liczb pierwszych ani do złożo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76280"/>
            <a:ext cx="8424720" cy="1856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rzeciw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e różni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ę znakiem i których suma wynosi 0.  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przeciwna do liczby 2  to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213000"/>
            <a:ext cx="8425080" cy="2504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odwrotn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takie dwie liczby, który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loczyn wynosi 1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.  liczba odwrotna do liczby 2 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24000" y="4365720"/>
            <a:ext cx="7921440" cy="861840"/>
            <a:chOff x="324000" y="4365720"/>
            <a:chExt cx="7921440" cy="8618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194600" y="4365720"/>
                  <a:ext cx="272880" cy="79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24000" y="4694040"/>
              <a:ext cx="7921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263700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iór liczb całkowitych oznaczamy symbol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 = { 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500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CAŁKOWIT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5589720"/>
            <a:ext cx="82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zby całkowite są podzbiorem liczb wymiernyc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całkowite to liczby naturalne oraz licz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ich przeciw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716280"/>
            <a:ext cx="2808360" cy="2232000"/>
          </a:xfrm>
          <a:prstGeom prst="wedgeEllipseCallout">
            <a:avLst>
              <a:gd name="adj1" fmla="val -9412"/>
              <a:gd name="adj2" fmla="val 96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144000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941720"/>
            <a:ext cx="71928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404640"/>
            <a:ext cx="8497800" cy="1207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podzielne przez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9264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dodatni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ujemny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229360"/>
            <a:ext cx="889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czby ujemne i zero tworzą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zbiór liczb niedodatni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421000"/>
            <a:ext cx="8713800" cy="97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Liczby nieparzyst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o liczby całkowite niepodzielne przez 2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BIÓR LICZB WYMIERNY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341360"/>
            <a:ext cx="8424720" cy="136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czby wymierne W to wszystkie liczby, które można przedstawić w postaci ilorazu liczb całkowitych, gdzie mianownik jest liczbą różną od z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640" y="2781360"/>
            <a:ext cx="8496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iczby wymierne to wszystkie liczby naturalne, całkowite oraz wszystkie ułamki dodatnie i ujem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716280"/>
            <a:ext cx="4032360" cy="2133720"/>
          </a:xfrm>
          <a:prstGeom prst="wedgeEllipseCallout">
            <a:avLst>
              <a:gd name="adj1" fmla="val -37166"/>
              <a:gd name="adj2" fmla="val 8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933720"/>
            <a:ext cx="2808360" cy="1871640"/>
          </a:xfrm>
          <a:prstGeom prst="wedgeEllipseCallout">
            <a:avLst>
              <a:gd name="adj1" fmla="val -9412"/>
              <a:gd name="adj2" fmla="val -581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49720"/>
            <a:ext cx="1439640" cy="1440000"/>
          </a:xfrm>
          <a:prstGeom prst="wedgeEllipseCallout">
            <a:avLst>
              <a:gd name="adj1" fmla="val -31254"/>
              <a:gd name="adj2" fmla="val -1493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724280"/>
            <a:ext cx="718920" cy="648000"/>
          </a:xfrm>
          <a:prstGeom prst="wedgeEllipseCallout">
            <a:avLst>
              <a:gd name="adj1" fmla="val -28810"/>
              <a:gd name="adj2" fmla="val 424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47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zby wymierne są podzbiorem liczb rzeczywistych R i nadzbiorem licz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łkowitych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9:10:36Z</dcterms:created>
  <dc:creator>nauczyciel</dc:creator>
  <dc:description/>
  <dc:language>en-US</dc:language>
  <cp:lastModifiedBy>Matematyka</cp:lastModifiedBy>
  <dcterms:modified xsi:type="dcterms:W3CDTF">2014-01-03T14:53:57Z</dcterms:modified>
  <cp:revision>64</cp:revision>
  <dc:subject/>
  <dc:title>ZBIÓR LICZB RZECZYWISTYCH I JEGO PODZBIORY</dc:title>
</cp:coreProperties>
</file>